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430-ABF7-4DF5-ADCF-1A152C78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5F6-E11E-41D9-9B65-93E5C68B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988-5123-413A-9D91-2ED93E5D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B63-F847-46F8-A46E-EE0F64E4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45C4-EE86-46A9-8806-0EBA81BB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1052-505E-4FEB-BD1D-82561823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B24F-9EC1-4A25-8CA6-F8CB45C7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D70D-4CF0-43F4-A848-4D998E62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1144-B0FE-4A6C-B98D-745E5560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C5CA-B70A-4BE3-BFA7-327EEF26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B79C-24DE-49B5-920D-AD03E3DC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42A-617C-40AA-B1F9-BF8580E0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4013-96EB-45E7-96C2-20D7634E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B5AB-EB98-431C-9C11-2D3E05F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38F8-850F-41D3-BD90-36C838DD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214B-5212-4A0C-B590-3444A555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8B2E-C19A-4FC0-8C96-6A3D20D6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77C3-97BB-40BB-99BB-B60E17CE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D9AD-B9A5-49C1-8BFA-7F82D48A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1FE7-CC4D-467E-86DA-75D0106E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C0237-6CC6-4BF7-A11B-70F0875B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BDCC-7014-4D1F-896D-29EFA16F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900-3423-410B-AF03-302C8397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4C9C-A682-420B-A34E-E42F5B89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FEAB-516A-4147-9B5C-CA01A555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C303-B9E4-434C-8B2C-2050A78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5EAF-A16C-44AD-BA57-AB232A12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1FA1-B176-47D2-9DBA-35880D4D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EA31-906D-49F8-AA97-C0E753EA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6FA48-947F-4054-B7EC-21DA53FE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7BB61-8503-45DC-AA3D-6FA9F9F1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194D-EFED-44A8-878A-DC52A65B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4864-F4A1-4F41-A861-9515441E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0D0-1D0C-4B8E-969C-98F836A2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14C5-B9DC-4190-B195-0D18EB6D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18D9A-A04D-4B5B-A6D6-514CAE31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D702F-721D-4528-AA73-F4033D0B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14254-65E6-454C-845A-79FF57C8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8D83-15AC-4C38-A7F2-B62BF16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7E889-83CE-4EF1-970F-AED2D591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3BD3-C570-4D12-875C-C304936B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FBCD6-CB22-4733-85B6-5D7063D7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A19B-E804-4DB8-A59A-FF8307C9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3D49A-A924-417D-AD1B-7D6B28FF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253-FC16-423A-BF53-62A6FED7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C10CB-FF57-4485-8B64-4BEB767C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3E9FB-27C1-4D5E-9C92-FBCAF54E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09F0-87AF-4179-AF14-68A291EA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B48C5-80F1-4A1C-A3EB-3304BA4B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B0119-F47B-4C4C-8BDA-72DA5AA0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77E6E-872C-411F-B1DB-99D42B60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738A1-A5F9-436F-8919-3B359EB3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05FB6-6205-4C09-9143-5730717F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BF7F4-E28A-4DA7-B339-FE254E82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FC8D8-B1FF-43BF-BA99-F01409ED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EA3-99B1-4A85-B48B-8B951BAB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3B475-E5ED-416B-BA5A-E4ED2717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1BA-5468-4C22-B7E3-E641494C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852-022B-4F24-BFC2-E16000A1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05F-03AE-4556-8224-07330C48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4EA1-EF54-46E7-919C-56A5185D14A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6CA9-49A1-4EDD-8D20-55649648005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7E5E-82B9-4052-89BA-8618860BA0F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2825-4CDD-4AC9-84AE-BDB6C22D6F54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FEE6-D40F-4456-B8D8-1C17328BD83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267000" y="530280"/>
            <a:ext cx="56516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втор: Кутькина Марина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98748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2" descr=""/>
          <p:cNvPicPr/>
          <p:nvPr/>
        </p:nvPicPr>
        <p:blipFill>
          <a:blip r:embed="rId2"/>
          <a:stretch/>
        </p:blipFill>
        <p:spPr>
          <a:xfrm>
            <a:off x="176040" y="1298520"/>
            <a:ext cx="8517240" cy="4834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0"/>
          <p:cNvPicPr/>
          <p:nvPr/>
        </p:nvPicPr>
        <p:blipFill>
          <a:blip r:embed="rId3"/>
          <a:stretch/>
        </p:blipFill>
        <p:spPr>
          <a:xfrm>
            <a:off x="1285920" y="4857840"/>
            <a:ext cx="17715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82520" y="317520"/>
            <a:ext cx="7523280" cy="1187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возникли многогранник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такое многогранник, их виды и свойства?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встречаются многогранники в быту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1"/>
          <p:cNvPicPr/>
          <p:nvPr/>
        </p:nvPicPr>
        <p:blipFill>
          <a:blip r:embed="rId2"/>
          <a:stretch/>
        </p:blipFill>
        <p:spPr>
          <a:xfrm>
            <a:off x="1500120" y="4429080"/>
            <a:ext cx="144792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2"/>
          <p:cNvPicPr/>
          <p:nvPr/>
        </p:nvPicPr>
        <p:blipFill>
          <a:blip r:embed="rId3"/>
          <a:stretch/>
        </p:blipFill>
        <p:spPr>
          <a:xfrm>
            <a:off x="5857920" y="4357800"/>
            <a:ext cx="13525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82520" y="317520"/>
            <a:ext cx="7523280" cy="1187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тори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следовате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ледопыт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2" descr="3"/>
          <p:cNvPicPr/>
          <p:nvPr/>
        </p:nvPicPr>
        <p:blipFill>
          <a:blip r:embed="rId2"/>
          <a:stretch/>
        </p:blipFill>
        <p:spPr>
          <a:xfrm>
            <a:off x="5286240" y="3857760"/>
            <a:ext cx="1162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79848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2" descr=""/>
          <p:cNvPicPr/>
          <p:nvPr/>
        </p:nvPicPr>
        <p:blipFill>
          <a:blip r:embed="rId2"/>
          <a:stretch/>
        </p:blipFill>
        <p:spPr>
          <a:xfrm>
            <a:off x="407880" y="658800"/>
            <a:ext cx="82915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82520" y="317520"/>
            <a:ext cx="7523280" cy="1187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учить источники информ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анализировать полученную информац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строить план изложения материа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здать презентацию, буклет, кроссворд согласно план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Содержимое 2" descr=""/>
          <p:cNvPicPr/>
          <p:nvPr/>
        </p:nvPicPr>
        <p:blipFill>
          <a:blip r:embed="rId1"/>
          <a:stretch/>
        </p:blipFill>
        <p:spPr>
          <a:xfrm>
            <a:off x="328680" y="1603440"/>
            <a:ext cx="75042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1:30:43Z</dcterms:created>
  <dc:creator>Admin</dc:creator>
  <dc:description/>
  <dc:language>en-US</dc:language>
  <cp:lastModifiedBy>Admin</cp:lastModifiedBy>
  <dcterms:modified xsi:type="dcterms:W3CDTF">2010-05-06T16:01:39Z</dcterms:modified>
  <cp:revision>15</cp:revision>
  <dc:subject/>
  <dc:title>  Наш многогранный мир   </dc:title>
</cp:coreProperties>
</file>